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FF0-DBEF-47D1-AAE0-29E899E8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0F3-AEDC-4C31-B680-A3687E3E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073-524C-4990-8613-7402540E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0B3-8A31-4A55-954B-B051F5DF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E1A-C10B-4E36-8117-3CB7E8CA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10A-9240-456E-9F61-20DADF54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DDD-8EE7-4006-9BF8-48D6294E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66F-4174-44EB-9971-16684575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284-78A6-420B-95AE-502C37B5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E6E-F311-4D44-B657-05099EE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4D5-C8D2-419F-BE64-B6283BA3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28F-F3DE-4E14-86DD-C3002F6D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6137-9A85-4488-9CD4-907082136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136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School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fiction books give us true information. When we read non-fiction, we learn about true stuff. You can read the words or look a the photographs, maps or diagrams. These are al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n give us information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685800"/>
            <a:ext cx="5738760" cy="34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hoolText"/>
              </a:rPr>
              <a:t>Non-Fiction Feature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hoolText"/>
              <a:ea typeface="School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choolText"/>
              </a:rPr>
              <a:t>Photograph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SchoolTex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choolText"/>
              </a:rPr>
              <a:t>A photograph shows us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5105160"/>
            <a:ext cx="8534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Text"/>
              </a:rPr>
              <a:t>Caption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SchoolText"/>
              </a:rPr>
              <a:t>A caption tells us about a photograph or pic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hoolText"/>
              </a:rPr>
              <a:t>This is The Lowell School in Watert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hoolText"/>
              </a:rPr>
              <a:t>It’s a great sch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choolText"/>
              </a:rPr>
              <a:t>Labels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SchoolText"/>
              </a:rPr>
              <a:t>A label will tell you the name of something</a:t>
            </a:r>
            <a:r>
              <a:rPr b="0" lang="en-US" sz="4800" spc="-1" strike="noStrike">
                <a:solidFill>
                  <a:srgbClr val="000000"/>
                </a:solidFill>
                <a:latin typeface="SchoolTex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5337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choolText"/>
              </a:rPr>
              <a:t>Illustration or Drawings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SchoolText"/>
              </a:rPr>
              <a:t>Shows us a pic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350496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1625760"/>
            <a:ext cx="560088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choolText"/>
              </a:rPr>
              <a:t>Map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SchoolText"/>
              </a:rPr>
              <a:t>A map tells us where something is</a:t>
            </a:r>
            <a:r>
              <a:rPr b="1" lang="en-US" sz="4800" spc="-1" strike="noStrike">
                <a:solidFill>
                  <a:srgbClr val="000000"/>
                </a:solidFill>
                <a:latin typeface="SchoolTex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2485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SchoolText"/>
              </a:rPr>
              <a:t>Diagra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SchoolText"/>
              </a:rPr>
              <a:t>To show what something is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8242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SchoolText"/>
              </a:rPr>
              <a:t>Title</a:t>
            </a: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SchoolText"/>
              </a:rPr>
              <a:t>To name the book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17348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33720" y="1295280"/>
            <a:ext cx="198108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34:03Z</dcterms:created>
  <dc:creator>ACox</dc:creator>
  <dc:description/>
  <dc:language>en-US</dc:language>
  <cp:lastModifiedBy>ACox</cp:lastModifiedBy>
  <dcterms:modified xsi:type="dcterms:W3CDTF">2011-10-13T23:20:44Z</dcterms:modified>
  <cp:revision>9</cp:revision>
  <dc:subject/>
  <dc:title>Slide 1</dc:title>
</cp:coreProperties>
</file>